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DE0-74A6-43C4-B56E-43559F01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044-51E3-498B-A34A-92B2F236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9F470-6435-4A98-AEDF-757005F0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99FBD-E3CC-412B-8043-E4838FB8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624CF-F27F-4412-AC78-760B09F9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B4E72-2888-4480-8763-C73AC220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A34F1-94B4-44E6-A7CA-DD3BECA5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E3D18-A816-48E6-BB17-CA42E915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791C1-1B55-4601-B4B1-075AAE00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4C38E-E837-40FA-872B-A4C48F56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3C875-5C08-4452-B5CB-7623B74D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8F6-FD19-4569-A420-4FFE820B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D34-F30E-4C40-ACE2-8B8AD08D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BB09-52B7-4EC6-B698-3F83F613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AEF5-E75C-4A0C-B845-6BF41100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E308-10AF-47E4-AFC2-6285B00E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8FF4-F510-444C-9D76-3577F97D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01B3-1D74-4017-B804-6854526A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34C0-B33B-45DC-B52D-49D231B0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5407-EF11-48F0-9628-5F2AE94C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A82-78DE-431A-9B64-DE535B29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EBEA-2BC5-4DF5-8E32-F6B7CEC5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D818-5B98-4187-8EEB-903B88AA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D143-29B6-4049-B669-C973A6E5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EC92-4064-4A17-B3F4-0FF1DBF2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3124-4C34-4051-9238-C2A44668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5A3A-70E1-4016-BCAC-5D6F7517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F5DB-B63E-4183-867A-A22FAFEF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1719-8089-49A9-AA91-8464FA72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16BDC-8C32-40FC-AD31-2ED247CE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C11D-6428-49A2-8539-AAE02BC4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2AA-D089-4FEF-8C28-1B9211C9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5A94-6160-4AC9-A59F-CE3D2584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F154-7A3C-46BD-992D-7397709F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C66C0-B895-4262-B716-9AF4E1F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5E8E-5BCA-410B-BA52-98742F80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7222-9CB3-49BD-A089-D2C44E0A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BB82-B51A-40FC-ACDD-795AB9D1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2D0B-E780-4217-8372-48836E9A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F60F-52C7-4CC6-9760-FA375BDA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24EA-E699-4A7D-9A18-62639BBB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1D4EE-4AC1-4E0F-BCFE-4275E330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9FB-6D45-4BE2-A89F-53980984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943F-223E-4A48-8CCF-2A4A8E86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17770-FDA2-40B8-A3B4-5F6E1D54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5B0E-1680-4797-BF47-3CEEECEA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6D9CC-BC09-4D15-8B32-949EFDB9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8BAD-EB6F-4815-A1B0-35D87BEC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70F52-B375-4C1E-99E8-2FCA9365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64DF-833A-48EF-A44C-22629765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91970-2982-479A-853A-0A1807E4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1A19E-53F9-4BFF-8631-0075C57D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845D3-36DD-49A1-AA9A-94924DA9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82A-CB67-428C-9006-C858011E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BFE7F-BEEB-48B9-B2F1-33A2C6C0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84663-E2B8-459A-B56D-465BD201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BD099-D183-4650-BE2E-15FCD7FB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7B51C-6E27-4F6C-B3C9-52437DA4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0CEDD-00D9-4D86-91D0-17190B91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970DE-C4DB-47E5-9610-732EC3C7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D2891-A799-4BCC-AC90-992029FF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EDC81-2D32-44D5-A108-23D0DEAE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B3A90-EE08-4166-8E14-A0E0F8F1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F2F69-0E75-480F-8970-98151D84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A96-1728-40BA-8ED6-0370A291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9D39B-18C4-4D4F-B148-E7CF92E0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76819-A84F-4ED0-847D-56EDAB68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D7611-11E0-40B6-AA51-214788B7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A0035-A630-4FEA-B85B-43755F78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999FA-924B-4655-9F07-744F5CB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3282C-25F5-41F9-B09D-626F5BD4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78409-6F09-49DC-9657-0FABD6EF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8831A-B78C-4F4B-A940-E3183688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E9F21-3D21-4A1A-BC1E-A2CAA9A0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7B243-620F-4EBE-B319-490AF6EB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C7D-F966-4E1A-8193-C2F8E33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5FF58-42B5-4778-A0E7-9489A1EA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ADEC1-9328-4980-8ACD-E7FC1F6E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3FC17-12A7-47D4-82BB-062C032E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A6E82-2E85-4972-B449-7894F189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4D5DE-3D14-4F09-B92C-F689322C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E920A-8985-474F-9678-FA7C1072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42A20-91FE-4FB9-852B-8D62B330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44B70-06DB-446E-82C9-3CA9D17E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14CC7-44AD-4ECC-B447-6C5E15D2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4DBD8-00CD-463F-A05B-ACEE213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299-711F-4008-ADE1-0752DD32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35C1F-9D0F-4DF3-848F-D692EAB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AE83-72A0-4BBF-81D9-E915FB60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02669-9AE1-43CE-8BCC-E8CFF0C1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99087-C42D-41AB-9448-C8AC1500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4870B-0BBB-43A2-AC7A-B5237E37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D4755-028D-469C-B6D7-2AF45FD9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B299A-D58A-401F-91CB-CBB504C6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DD363-89C0-4F97-ADEE-C6452E71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88189-AAF5-44B9-9C94-831DAAE2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A705E-BD04-4F71-899B-B84547D3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583-2430-4108-89E8-E0A4E63F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1B52A-AAB4-4BEC-AE38-2D0AEB06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520E8-BFE5-49A0-9C40-A82E6A4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98E43-501D-4FE2-A29B-D4381002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2338F-0890-4DA5-BB43-3F8DA224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8C85C-83FF-479D-B163-9CE19F6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416E7-9E4B-4B8C-A77F-889EF91A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D339-E4C6-456A-8EAC-DA62DF42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57C21-3837-4442-A27F-D8E3FCB6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15A51-425E-4BB9-AE1F-090382C2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95D9D-A7B5-4E2C-8169-D7303442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CB65-A2F0-4D8D-95D9-839674AC57D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F5F1-94FD-4422-BB94-78248EC78BC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0A09-89FA-4190-BEB1-25436E3968C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0FF2-13A1-4956-B0EB-2D14E04ACC0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FE63-C0DE-4515-A557-C7B53EE2E97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161B-4BF7-4C1B-9EE5-0DA718C1617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78F4-4A67-4B52-B354-95567AD34C8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2DA1-0A84-4FF5-B21C-2B198DB3F3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24E0-438E-4170-B499-FFA5EE0A046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-92160" y="1444680"/>
            <a:ext cx="8937720" cy="2146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3329"/>
                </a:solidFill>
                <a:latin typeface="Adobe Garamond Pro Bold"/>
              </a:rPr>
              <a:t>What’s Next?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111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35049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Biolog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Physics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Chemistr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304920" y="4038480"/>
            <a:ext cx="51051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 </a:t>
            </a: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3 Years of a Science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Content Placeholder 2"/>
          <p:cNvSpPr/>
          <p:nvPr/>
        </p:nvSpPr>
        <p:spPr>
          <a:xfrm>
            <a:off x="4800600" y="1523880"/>
            <a:ext cx="32767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½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½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111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35049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Biolog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Physics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Chemistr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304920" y="4038480"/>
            <a:ext cx="533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 </a:t>
            </a: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3 Years of a Science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Content Placeholder 2"/>
          <p:cNvSpPr/>
          <p:nvPr/>
        </p:nvSpPr>
        <p:spPr>
          <a:xfrm>
            <a:off x="4800600" y="1523880"/>
            <a:ext cx="32767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½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½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304920" y="480060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 </a:t>
            </a: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2 Years of a Lab Science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7086600" y="1554120"/>
            <a:ext cx="16765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Yes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111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3"/>
          <p:cNvSpPr/>
          <p:nvPr/>
        </p:nvSpPr>
        <p:spPr>
          <a:xfrm>
            <a:off x="457200" y="2133720"/>
            <a:ext cx="2362320" cy="3809880"/>
          </a:xfrm>
          <a:prstGeom prst="rect">
            <a:avLst/>
          </a:prstGeom>
          <a:solidFill>
            <a:srgbClr val="f0a22e"/>
          </a:solidFill>
          <a:ln w="255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438840" y="2666880"/>
            <a:ext cx="237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General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Biology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Biology 1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3200400" y="2133720"/>
            <a:ext cx="2362320" cy="19047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3200400" y="4038480"/>
            <a:ext cx="2362320" cy="1905120"/>
          </a:xfrm>
          <a:prstGeom prst="rect">
            <a:avLst/>
          </a:prstGeom>
          <a:solidFill>
            <a:srgbClr val="00b0f0"/>
          </a:solidFill>
          <a:ln w="255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TextBox 8"/>
          <p:cNvSpPr/>
          <p:nvPr/>
        </p:nvSpPr>
        <p:spPr>
          <a:xfrm>
            <a:off x="3377160" y="4267080"/>
            <a:ext cx="206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General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Physics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TextBox 9"/>
          <p:cNvSpPr/>
          <p:nvPr/>
        </p:nvSpPr>
        <p:spPr>
          <a:xfrm>
            <a:off x="3276720" y="2438280"/>
            <a:ext cx="21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Chemistr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5943600" y="2133720"/>
            <a:ext cx="2362320" cy="380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6172200" y="3352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uhaus 93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2840" y="384120"/>
            <a:ext cx="8955000" cy="12859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5943600" y="2133720"/>
            <a:ext cx="2362320" cy="380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6172200" y="3352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uhaus 93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TextBox 5"/>
          <p:cNvSpPr/>
          <p:nvPr/>
        </p:nvSpPr>
        <p:spPr>
          <a:xfrm>
            <a:off x="59040" y="1523880"/>
            <a:ext cx="47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dobe Garamond Pro Bold"/>
              </a:rPr>
              <a:t>College Bound ?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09120" y="2743200"/>
            <a:ext cx="54104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Physics 1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Chemistry 1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2840" y="384120"/>
            <a:ext cx="8955000" cy="12859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5943600" y="2133720"/>
            <a:ext cx="2362320" cy="380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6172200" y="3352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uhaus 93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164880" y="1523880"/>
            <a:ext cx="243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dobe Garamond Pro Bold"/>
              </a:rPr>
              <a:t>General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09480" y="2743200"/>
            <a:ext cx="464832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E-Bio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Horticulture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Anthropolog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5:47:08Z</dcterms:created>
  <dc:creator> </dc:creator>
  <dc:description/>
  <dc:language>en-US</dc:language>
  <cp:lastModifiedBy> </cp:lastModifiedBy>
  <dcterms:modified xsi:type="dcterms:W3CDTF">2011-01-25T16:47:44Z</dcterms:modified>
  <cp:revision>9</cp:revision>
  <dc:subject/>
  <dc:title>Science</dc:title>
</cp:coreProperties>
</file>